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92C-F07F-4F92-A961-2E635BB7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21F-51F8-4954-B435-372552D4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A84-DE91-4C30-9A1C-30889518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309-51EC-484C-A6EE-CE8E2DEE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420-64FC-46DD-AD39-15E56488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039-C2D8-4CD2-A3F9-CDD7798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8DF-B0A9-4884-ABC3-59A8CD19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7BD-2288-45A6-9032-AA416E16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8AA-6115-4F35-8B26-F14BD171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966-3E15-4618-8E7F-386D7C4A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385-68FB-4A99-B61F-8AFD1548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521-EB62-4AA8-8445-D7786E41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2BE-0E7D-4BE9-A455-FBE17303A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ование тренажеров в технической и физической подготовке начинающих волейболис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ыявить и обосновать, что использование тренажерных устройств, в процессе подготовки волейболистов повышает их спортивные 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анализировать существующую научно-методическую литературу по данной проблеме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пределить роль тренажерных устройств, как одного из важных средств в процессе подготовки волейбо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расскрыть значение использования тренажеров в физической и технической подготовке волейбол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роследить за динамикой физической подготовки волейболи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цесс подготовки волейб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ажеры и тренажерные устройства, как одно из средств повышения физической подготов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положим что, используя тренажерные устройства в процессе подготовки волейболистов, повысится уровень физической подготовленности атакующего уд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Анализа литератур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едагогическое тес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етод математических статис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Великодворской средней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-1234440" y="3245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,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7772040" y="3668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2"/>
          <p:cNvSpPr/>
          <p:nvPr/>
        </p:nvSpPr>
        <p:spPr>
          <a:xfrm>
            <a:off x="1500120" y="660960"/>
            <a:ext cx="682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технической подготовки заним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ренажерами и тренажерными устройств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58920" y="1484280"/>
          <a:ext cx="7273800" cy="389592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дков А.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бодин 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в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ливан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2+2+1+2):5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3+3+2+2):5=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91"/>
          <p:cNvSpPr/>
          <p:nvPr/>
        </p:nvSpPr>
        <p:spPr>
          <a:xfrm>
            <a:off x="2268360" y="5514840"/>
            <a:ext cx="477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. арифм .= һ : 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ŗ –количество заним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ħ – сумма количеств попад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68360" y="4759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затель технической подготовки занимающихся без тренажеров и тренажерных устр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421000"/>
          <a:ext cx="6077160" cy="411480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7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йце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ст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крас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зин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2+1+0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3+1+1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58920" y="1916280"/>
          <a:ext cx="6264360" cy="439236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</a:tblGrid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9:48:46Z</dcterms:created>
  <dc:creator>Приятель</dc:creator>
  <dc:description/>
  <dc:language>en-US</dc:language>
  <cp:lastModifiedBy>Максим</cp:lastModifiedBy>
  <dcterms:modified xsi:type="dcterms:W3CDTF">2010-10-30T18:17:04Z</dcterms:modified>
  <cp:revision>3</cp:revision>
  <dc:subject/>
  <dc:title>Использование тренажеров в технической и физической подготовке начинающих волейболистов.</dc:title>
</cp:coreProperties>
</file>